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A810433-B0A8-410D-AE10-EE7AE387F047}"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C1E3936-A481-4855-A7DE-7BCB01929D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37A055-FA84-4BF3-A48B-CE74F5BA499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6644B5-B82F-4A6D-8423-4583DFA778C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C7AD0A-CBD4-4806-BC30-59225DCB2A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9E91E2-59DF-4BF4-B41D-DFE14DB3D24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5E8377E-A0F5-4465-9CCD-A59ABBBF81D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0B38F4-F05E-4891-AFBE-2DC6780DE6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A6C1C4-9AC1-4885-BC10-9F7BCEE4B2B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D82DB9-580B-43B3-8E0E-6592FC0BB74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94970E-5983-4A2E-B8DC-A34B5A97AE1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151581-2ECC-44E4-A9F1-78F1DB7B5E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EE749C-F150-4504-B67F-88F2586A85B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D68D8A-DEB7-4879-9A54-7657135176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D23185-73D2-4598-B138-B9F634A9AE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5CB1D0-85A0-4AFD-8323-E79B338128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B4353A-87B5-4B02-BDDB-2D41121DBB6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6726041-41B2-40AE-8213-A171CF3E67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65B2EC-18DB-49FB-B5FB-F1B83FBE10A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1CBD03A-D94D-4EC2-96B5-777E324D89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57B458-754A-41E6-8E47-7A8A0E51CFB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8F72494-A066-40F4-B13E-BE91B1788EA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7FCB60-25BC-4DB6-827C-2945B3BC068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C3C2E9-1E84-44C8-9080-130BD1195D2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9D48AB-230D-4EE2-BCEE-C4941888736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88393CE-5E9D-4B4E-A88A-29BF3F00242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887320-B4F7-4FA8-9180-B247A73042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F9B5555-18CF-4081-96F5-5887B2D32D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3169CA-B92E-46EE-B182-4B45BAB5ABC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0F43C5-16CE-4E9C-B957-CE93856992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164AAD-9C0A-45B1-8F62-AD7D805A516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F1A23C-DCAB-4B6A-96DB-5546D1F4941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9EC8394-2BB1-458E-91FA-7CFCDEE6A7E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C2129A-1D7A-4D1D-9E5D-ACF39873D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99E1AE-2BF3-46B3-B9C5-D40E575C3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C72527-AF5A-49FE-8AA8-B5D0A5E1E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3980AF-1E97-4504-94E4-EA1C71FB9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BCB3E-73EE-4FE0-A6DC-B6B1BAE79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613C2-9D8D-4DB9-B7F0-22AD2BAA0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C4AA3-F0F1-4FD6-951D-595E7A7D1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A8A3E-3691-4992-A219-5771B4CE6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36DBF-9D07-4100-9FB4-6BC9CC4F0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D2F1E-4BBF-4620-9A43-8390FA162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70197-6CF7-4F29-B01A-92ABE0039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A618A8-A70E-49DF-924E-2B36202E4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9BBF7-FF39-4953-B908-254292151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EE3A0-CD83-4955-818C-B3FB2E4FD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9FB27-ED6D-436D-90BD-AD0BA4BD8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2CF49-9185-49AE-8F82-5C626E8CF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C023F-F592-4D60-A527-347786CD9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D8B7BD-9D55-414A-BC60-55C09DCE8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A576ED-EAC0-463C-9144-AC41A0284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26F491-D792-41F2-88C3-327D684FE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480E8C-247A-4D1E-8C38-9D71997DA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466A1-7847-486A-9B76-A617726D3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49424-33D0-426B-B6AA-F82A76C3C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EC9E3-DBE0-4EC9-AD68-70562B3FB6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62A9-358F-4C14-BFC0-774292CB8250}"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DD7F-55CE-42EE-893A-8A8415397272}"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ovo se podrazumijeva da se nalazi u dokumentaciji kod inspekcisj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a:t>
            </a:r>
            <a:r>
              <a:rPr b="0" lang="sr-Latn-ME" sz="1400" spc="-1" strike="noStrike">
                <a:solidFill>
                  <a:srgbClr val="ffffff"/>
                </a:solidFill>
                <a:latin typeface="Arial"/>
              </a:rPr>
              <a:t>radova I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Ako u toku gra</a:t>
            </a:r>
            <a:r>
              <a:rPr b="0" lang="sr-Latn-ME" sz="1500" spc="-1" strike="noStrike">
                <a:solidFill>
                  <a:srgbClr val="ffffff"/>
                </a:solidFill>
                <a:latin typeface="Arial"/>
              </a:rPr>
              <a:t>đ</a:t>
            </a:r>
            <a:r>
              <a:rPr b="0" lang="vi-VN" sz="1500" spc="-1" strike="noStrike">
                <a:solidFill>
                  <a:srgbClr val="ffffff"/>
                </a:solidFill>
                <a:latin typeface="Arial"/>
              </a:rPr>
              <a:t>enja objekta do</a:t>
            </a:r>
            <a:r>
              <a:rPr b="0" lang="sr-Latn-ME" sz="1500" spc="-1" strike="noStrike">
                <a:solidFill>
                  <a:srgbClr val="ffffff"/>
                </a:solidFill>
                <a:latin typeface="Arial"/>
              </a:rPr>
              <a:t>đ</a:t>
            </a:r>
            <a:r>
              <a:rPr b="0" lang="vi-VN" sz="1500" spc="-1" strike="noStrike">
                <a:solidFill>
                  <a:srgbClr val="ffffff"/>
                </a:solidFill>
                <a:latin typeface="Arial"/>
              </a:rPr>
              <a:t>e do promjene izvo</a:t>
            </a:r>
            <a:r>
              <a:rPr b="0" lang="sr-Latn-ME" sz="1500" spc="-1" strike="noStrike">
                <a:solidFill>
                  <a:srgbClr val="ffffff"/>
                </a:solidFill>
                <a:latin typeface="Arial"/>
              </a:rPr>
              <a:t>đ</a:t>
            </a:r>
            <a:r>
              <a:rPr b="0" lang="vi-VN" sz="1500" spc="-1" strike="noStrike">
                <a:solidFill>
                  <a:srgbClr val="ffffff"/>
                </a:solidFill>
                <a:latin typeface="Arial"/>
              </a:rPr>
              <a:t>a</a:t>
            </a:r>
            <a:r>
              <a:rPr b="0" lang="sr-Latn-ME" sz="1500" spc="-1" strike="noStrike">
                <a:solidFill>
                  <a:srgbClr val="ffffff"/>
                </a:solidFill>
                <a:latin typeface="Arial"/>
              </a:rPr>
              <a:t>č</a:t>
            </a:r>
            <a:r>
              <a:rPr b="0" lang="vi-VN" sz="1500" spc="-1" strike="noStrike">
                <a:solidFill>
                  <a:srgbClr val="ffffff"/>
                </a:solidFill>
                <a:latin typeface="Arial"/>
              </a:rPr>
              <a:t>a radova, odnosno stru</a:t>
            </a:r>
            <a:r>
              <a:rPr b="0" lang="sr-Latn-ME" sz="1500" spc="-1" strike="noStrike">
                <a:solidFill>
                  <a:srgbClr val="ffffff"/>
                </a:solidFill>
                <a:latin typeface="Arial"/>
              </a:rPr>
              <a:t>č</a:t>
            </a:r>
            <a:r>
              <a:rPr b="0" lang="vi-VN" sz="1500" spc="-1" strike="noStrike">
                <a:solidFill>
                  <a:srgbClr val="ffffff"/>
                </a:solidFill>
                <a:latin typeface="Arial"/>
              </a:rPr>
              <a:t>nog nadzora</a:t>
            </a:r>
            <a:r>
              <a:rPr b="0" lang="sr-Latn-ME" sz="1500" spc="-1" strike="noStrike">
                <a:solidFill>
                  <a:srgbClr val="ffffff"/>
                </a:solidFill>
                <a:latin typeface="Arial"/>
              </a:rPr>
              <a:t> - </a:t>
            </a:r>
            <a:r>
              <a:rPr b="0" lang="vi-VN" sz="1500" spc="-1" strike="noStrike">
                <a:solidFill>
                  <a:srgbClr val="ffffff"/>
                </a:solidFill>
                <a:latin typeface="Arial"/>
              </a:rPr>
              <a:t>u roku od tri dana od dana nastanka promjene, pisanim putem obavijesti nadle</a:t>
            </a:r>
            <a:r>
              <a:rPr b="0" lang="sr-Latn-ME" sz="1500" spc="-1" strike="noStrike">
                <a:solidFill>
                  <a:srgbClr val="ffffff"/>
                </a:solidFill>
                <a:latin typeface="Arial"/>
              </a:rPr>
              <a:t>ž</a:t>
            </a:r>
            <a:r>
              <a:rPr b="0" lang="vi-VN" sz="1500" spc="-1" strike="noStrike">
                <a:solidFill>
                  <a:srgbClr val="ffffff"/>
                </a:solidFill>
                <a:latin typeface="Arial"/>
              </a:rPr>
              <a:t>ni inspekcijski organ</a:t>
            </a:r>
            <a:r>
              <a:rPr b="0" lang="sr-Latn-ME" sz="1500" spc="-1" strike="noStrike">
                <a:solidFill>
                  <a:srgbClr val="ffffff"/>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svu gradilišnu dokumentaciju (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a:t>
            </a:r>
            <a:r>
              <a:rPr b="0" lang="sr-Latn-ME" sz="1600" spc="-1" strike="noStrike">
                <a:solidFill>
                  <a:srgbClr val="ffffff"/>
                </a:solidFill>
                <a:latin typeface="Arial"/>
              </a:rPr>
              <a:t>,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a:t>
            </a:r>
            <a:r>
              <a:rPr b="0" lang="sr-Latn-ME" sz="1400" spc="-1" strike="noStrike">
                <a:solidFill>
                  <a:srgbClr val="ffffff"/>
                </a:solidFill>
                <a:latin typeface="Arial"/>
              </a:rPr>
              <a:t>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u prethodnom zakonu  „preliminarna primopredaja“) nakon završetka građenj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a:t>
            </a:r>
            <a:r>
              <a:rPr b="0" lang="sr-Latn-ME" sz="1200" spc="-1" strike="noStrike">
                <a:solidFill>
                  <a:srgbClr val="ffffff"/>
                </a:solidFill>
                <a:latin typeface="Arial"/>
              </a:rPr>
              <a:t>), a po prethodno pribavljenoj saglasnosti Ministarstva i organa državne uprave nadležnih za zaštitu kulturnih dobara i zaštitu životne sredine, 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lokalne uprave (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a:t>
            </a:r>
            <a:r>
              <a:rPr b="0" lang="sr-Latn-ME" sz="1400" spc="-1" strike="noStrike">
                <a:solidFill>
                  <a:srgbClr val="ffffff"/>
                </a:solidFill>
                <a:latin typeface="Arial"/>
              </a:rPr>
              <a:t>organu lokalne uprave (u </a:t>
            </a:r>
            <a:r>
              <a:rPr b="0" lang="sr-Latn-ME" sz="1400" spc="-1" strike="noStrike">
                <a:solidFill>
                  <a:srgbClr val="ffffff"/>
                </a:solidFill>
                <a:latin typeface="Arial"/>
              </a:rPr>
              <a:t>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a:bodyPr>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ff"/>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a:t>
            </a:r>
            <a:r>
              <a:rPr b="0" lang="sr-Latn-ME" sz="1600" spc="-1" strike="noStrike">
                <a:solidFill>
                  <a:srgbClr val="ffffff"/>
                </a:solidFill>
                <a:latin typeface="Arial"/>
              </a:rPr>
              <a:t>naknade). 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7:30Z</dcterms:modified>
  <cp:revision>522</cp:revision>
  <dc:subject/>
  <dc:title>ZAKON O IZGRADNJI OBJEKATA</dc:title>
</cp:coreProperties>
</file>